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366-5AE6-4549-83DC-62BF1A21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7FD-77D7-44B5-B546-E97D8BD6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8F5-78AC-453B-9688-2FD385A4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1EB-78B2-4420-9373-7D5FA226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1AE-BB27-45AB-ABA5-2788C7EA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3E2-4D0A-4780-9843-034C5267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3F4-96F8-4B17-9970-F93C486F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1EC-FF4B-45D3-A7A8-6ECCEAE0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B53-6573-406A-8176-52F9EAB7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D9D-537A-4D85-AAE9-FABA006F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B52-24E8-4D87-BBFC-E6BDE463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639-DA42-4AFB-9BFE-3A37D71D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BEED-D115-41CC-B4A1-F719B7AB4D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../Ucem-2008/Presentaciones/Presentaci&#243;n_Feria_Posgrados_base.ppt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4928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328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721800">
            <a:off x="755280" y="0"/>
            <a:ext cx="360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Berlin Sans FB Demi"/>
              </a:rPr>
              <a:t>Dirigida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Berlin Sans FB Demi"/>
              <a:ea typeface="Berlin Sans FB Dem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rcRect l="6753" t="0" r="7844" b="76825"/>
          <a:stretch/>
        </p:blipFill>
        <p:spPr>
          <a:xfrm rot="20662200">
            <a:off x="5292720" y="259920"/>
            <a:ext cx="3564000" cy="1668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0080" y="2421000"/>
            <a:ext cx="56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Relaciones Inter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6960" y="2898720"/>
            <a:ext cx="38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Comercio Ex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1520" y="3457440"/>
            <a:ext cx="21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Abog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6520" y="5616720"/>
            <a:ext cx="251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Con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5560" y="4537080"/>
            <a:ext cx="27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Econom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7320" y="4051440"/>
            <a:ext cx="301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erlin Sans FB Demi"/>
              </a:rPr>
              <a:t>Mercadólog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440" y="5124600"/>
            <a:ext cx="35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Administ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328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 rot="721800">
            <a:off x="394920" y="1341000"/>
            <a:ext cx="360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Berlin Sans FB Demi"/>
              </a:rPr>
              <a:t>Habilidad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Berlin Sans FB Demi"/>
              <a:ea typeface="Berlin Sans FB Dem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rcRect l="6753" t="0" r="7844" b="76825"/>
          <a:stretch/>
        </p:blipFill>
        <p:spPr>
          <a:xfrm rot="20662200">
            <a:off x="5292720" y="259920"/>
            <a:ext cx="3564000" cy="1668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42160" y="561168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0720" y="4941720"/>
            <a:ext cx="20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50520" y="3666960"/>
            <a:ext cx="367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sión integ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4172040"/>
            <a:ext cx="16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328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 rot="721800">
            <a:off x="394920" y="1341000"/>
            <a:ext cx="360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Berlin Sans FB Demi"/>
              </a:rPr>
              <a:t>Dominar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Berlin Sans FB Demi"/>
              <a:ea typeface="Berlin Sans FB Dem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6753" t="0" r="7844" b="76825"/>
          <a:stretch/>
        </p:blipFill>
        <p:spPr>
          <a:xfrm rot="20662200">
            <a:off x="5292720" y="259920"/>
            <a:ext cx="3564000" cy="1668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56800" y="5300640"/>
            <a:ext cx="396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Procedimientos teórico-prác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operativos y técn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64200" y="400536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Planes y estrategias de nego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6200" y="2708280"/>
            <a:ext cx="31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Instrumentos econó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financieros y con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32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 rot="721800">
            <a:off x="394920" y="333000"/>
            <a:ext cx="360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Berlin Sans FB Demi"/>
              </a:rPr>
              <a:t>Carrera 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Berlin Sans FB Demi"/>
              <a:ea typeface="Berlin Sans FB Dem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rcRect l="6753" t="0" r="7844" b="76825"/>
          <a:stretch/>
        </p:blipFill>
        <p:spPr>
          <a:xfrm rot="20662200">
            <a:off x="5292720" y="259920"/>
            <a:ext cx="3564000" cy="1668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2960" y="2708280"/>
            <a:ext cx="411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ras Bold ITC"/>
              </a:rPr>
              <a:t>sector púb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42760" y="4508640"/>
            <a:ext cx="289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Eras Bold ITC"/>
              </a:rPr>
              <a:t>empre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Eras Bold ITC"/>
              </a:rPr>
              <a:t>glob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31120" y="3284640"/>
            <a:ext cx="419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ras Bold ITC"/>
              </a:rPr>
              <a:t>sector priv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328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 rot="721800">
            <a:off x="394920" y="333000"/>
            <a:ext cx="360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Berlin Sans FB Demi"/>
              </a:rPr>
              <a:t>Dura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Berlin Sans FB Demi"/>
              <a:ea typeface="Berlin Sans FB Dem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rcRect l="6753" t="0" r="7844" b="76825"/>
          <a:stretch/>
        </p:blipFill>
        <p:spPr>
          <a:xfrm rot="20662200">
            <a:off x="5292720" y="259920"/>
            <a:ext cx="3564000" cy="1668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03280" y="3428640"/>
            <a:ext cx="50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2 años, 6 tetrames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328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24000" y="1268280"/>
            <a:ext cx="5299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23:48:02Z</dcterms:created>
  <dc:creator>Especialidades-B</dc:creator>
  <dc:description/>
  <dc:language>en-US</dc:language>
  <cp:lastModifiedBy>Ucem 2008</cp:lastModifiedBy>
  <dcterms:modified xsi:type="dcterms:W3CDTF">2009-01-20T14:38:18Z</dcterms:modified>
  <cp:revision>15</cp:revision>
  <dc:subject/>
  <dc:title>Diapositiva 1</dc:title>
</cp:coreProperties>
</file>